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CC47-DC6C-4EEF-9246-D3732ECA3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100E-EC35-4024-A071-D0C809FEC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569F-AA07-4672-BA9C-1E05F1D55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D9E4-12BE-4F0E-9F4F-842D2028C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1829-0E6B-4333-A3C5-A871FBD60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429C-8328-4939-8ED6-BD9000A4D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8996-D6AE-477F-965D-0F1C8374E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24F2-2161-443B-ABC5-8713ED84D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B882-C505-4E28-BBB1-882EE7FDC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1277-9311-4107-8694-20174F25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8656-AEE8-4723-A2FB-5C0163BD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08F4-2C64-4BF8-B0C9-0D5CE8EF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49B0E-7A71-4A11-9CDB-89F2057A0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19320" y="533520"/>
            <a:ext cx="6929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bbe0e3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mienne"/>
              </a:rPr>
              <a:t>Identifying Similarities &amp; Difference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bbe0e3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mienne"/>
              <a:ea typeface="Amienne"/>
            </a:endParaRPr>
          </a:p>
        </p:txBody>
      </p:sp>
      <p:sp>
        <p:nvSpPr>
          <p:cNvPr id="42" name=""/>
          <p:cNvSpPr/>
          <p:nvPr/>
        </p:nvSpPr>
        <p:spPr>
          <a:xfrm>
            <a:off x="593640" y="2209680"/>
            <a:ext cx="2759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are/contr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if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taph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alog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91120" y="2971800"/>
            <a:ext cx="327636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19720" y="3352680"/>
            <a:ext cx="2759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Help students understand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use knowledge by thinking abou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how items are alike and differ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66680" y="4343400"/>
            <a:ext cx="217008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3T14:34:37Z</dcterms:created>
  <dc:creator>workstation</dc:creator>
  <dc:description/>
  <dc:language>en-US</dc:language>
  <cp:lastModifiedBy>workstation</cp:lastModifiedBy>
  <dcterms:modified xsi:type="dcterms:W3CDTF">2010-08-03T14:37:15Z</dcterms:modified>
  <cp:revision>2</cp:revision>
  <dc:subject/>
  <dc:title>Slide 1</dc:title>
</cp:coreProperties>
</file>